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71A6-48FF-4DA9-9912-810BAD8A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109-B667-4864-A50F-371FE575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A23C-4AD6-4B8B-A313-1583BC9A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EF6-E5E3-4DDA-96D7-6A64839D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75F-575B-4478-AF6A-3715F84A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9EC-60C3-48A8-A9E2-5CB02C47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88C-86CC-470E-B2B5-F0570509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494-2668-4061-9E1C-81244C5F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D68-C60F-4FC3-8DEC-E2AEC2BA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14B-D254-43E6-895D-C0308945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3CE-9993-44DB-B178-EAEDE41F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F08-6443-4252-9BAE-AC52342B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2C25-6706-4C3C-8C32-2ED326C7E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hyperlink" Target="http://www.google.ca/imgres?imgurl=http://scitechie.com/wp-content/uploads/2009/12/NuclearEnergy_process.jpg&amp;imgrefurl=http://scitechie.com/12/how-to-build-your-own-nuclear-reactor/&amp;usg=__SrRtbbJWDY6NzDky3YG_HmUm1CY=&amp;h=1474&amp;w=1440&amp;sz=792&amp;hl=en&amp;start=30&amp;zoom=1&amp;tbnid=VNr8GeVnz42DKM:&amp;tbnh=150&amp;tbnw=147&amp;prev=/images%3Fq%3Dnuclear%2Benergy%26start%3D20%26hl%3Den%26safe%3Dactive%26sa%3DN%26gbv%3D2%26tbs%3Disch:1&amp;itbs=1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521.imageshack.us/img521/1604/bubbleky9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50920" y="765000"/>
            <a:ext cx="856908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Sour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5661000"/>
            <a:ext cx="878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Y:Jessica von Bers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3260880" cy="2517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116000" y="549360"/>
            <a:ext cx="676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572000" y="2492280"/>
            <a:ext cx="4000680" cy="3924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880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24000" y="1268280"/>
            <a:ext cx="4340160" cy="4534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912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0" y="333360"/>
            <a:ext cx="905832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those were the non-renewable energy sourc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700360" y="2349360"/>
            <a:ext cx="237636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Nuclear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oal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Oil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910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755640" y="836640"/>
            <a:ext cx="75614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583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ind Energ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886200" cy="508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79280" y="1341360"/>
            <a:ext cx="4498920" cy="284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63480" y="2368440"/>
            <a:ext cx="196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116000" y="4724280"/>
            <a:ext cx="1911240" cy="15591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40360" y="1844640"/>
            <a:ext cx="2879640" cy="3095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71640" y="4076640"/>
            <a:ext cx="2959200" cy="252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0920" y="1916280"/>
            <a:ext cx="2330280" cy="2447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755640" y="189000"/>
            <a:ext cx="74167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ola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332000" y="62064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ydr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4176720" cy="324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3961080" cy="3141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900000" y="1484280"/>
            <a:ext cx="244980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187280" y="981000"/>
            <a:ext cx="678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ose were the renewable sources of energ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76720" y="2205000"/>
            <a:ext cx="250812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ind Energy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olor Energ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ydro Energ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835280" y="260280"/>
            <a:ext cx="5472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ucle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12144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371760" cy="2571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44920" y="907920"/>
            <a:ext cx="5599080" cy="5713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042920" y="476280"/>
            <a:ext cx="67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a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3810240" cy="2695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211640" y="3141720"/>
            <a:ext cx="4762440" cy="319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34640" cy="6894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547640" y="765000"/>
            <a:ext cx="5513400" cy="5513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5:00:51Z</dcterms:created>
  <dc:creator>HWDSB</dc:creator>
  <dc:description/>
  <dc:language>en-US</dc:language>
  <cp:lastModifiedBy>HWDSB</cp:lastModifiedBy>
  <dcterms:modified xsi:type="dcterms:W3CDTF">2011-01-18T15:26:57Z</dcterms:modified>
  <cp:revision>5</cp:revision>
  <dc:subject/>
  <dc:title>Slide 1</dc:title>
</cp:coreProperties>
</file>